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13.wmf" ContentType="image/x-wmf"/>
  <Override PartName="/ppt/media/image9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8.png" ContentType="image/png"/>
  <Override PartName="/ppt/media/image16.wmf" ContentType="image/x-wmf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38899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41EF-3874-404A-B31F-41CFE60ABC6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04AC-7CF8-4C31-9E02-CB04C743377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5DB9-92D0-4C1A-88C2-11E8C2AF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B321-DAC7-44A9-B82F-DBE6AFFD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E615-8B06-456F-A0A3-D977B448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31E9-4D2A-4A92-A791-35748CC1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6283-C6A2-4FDF-BF4D-DF69E35E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44EC-A80D-4A5E-8729-481F02D2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C437-8444-402E-92F5-3B8CB7E0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57A6-42F8-4EFB-818F-D62722E1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4FBB-BC84-451B-A039-3847F3A3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920" y="115560"/>
            <a:ext cx="73152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ECE2-46B7-436B-BDDE-D96270A0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57D6-286F-4F09-A71E-7DB8596F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108E-985C-451A-B949-6D2FF2A8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293E-3474-4770-B5B8-277A20CB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6907-4D20-4F92-9C4C-BA482A7C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B8FD-4C10-4E63-9B37-D762BDEC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CDB3-FB9F-40C8-B603-84466A8D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E031-7EEA-4EA2-8373-C48EC845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DC67CA-52EE-41A7-8826-1FE0ACAC847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2F5E79-3B54-4BF5-B237-411FE5F619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77F7AA-C235-4D1C-94E5-7EEAA61A1C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2A604E-A463-483D-95CD-1C415ADF9A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DBE75E-85C5-47D8-ABC3-B2D248D2D3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3B7-E119-4CA8-9DC6-03D417B7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042920" y="115560"/>
            <a:ext cx="73152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E5AF9E-C8DD-4D6E-996F-B1218B340B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1EB3D0-DF08-4791-8B2F-F2E3EB80AAF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FFC04D-7303-4F4F-B278-21D9BD69F1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1AF6B9-2A00-4290-834A-B96BA4E3E8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12659E-C266-42E9-8539-2120153271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BE8C8A-090D-4F7A-93B4-D04EDD6989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C54EE7-768D-406C-9079-488010DC38D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4B92C7-D11A-416E-821F-6A8BA699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417674-3278-443D-B4C0-3EF17E8C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F19DF2-62B8-4463-965C-182BC2D2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2314-7806-4DCD-9CBC-951DE721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793EF4-1BCC-4631-AB34-98618DB1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72D898-C92C-490A-B80D-08CDC987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042920" y="115560"/>
            <a:ext cx="73152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961543-1F58-442B-B9C5-22D838A6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32E660-F9F5-4CF1-8F67-C15FC108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131D4E-0D67-40D1-91D2-5917B7E4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E4B92D-4077-4E2B-B6A3-23812D19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E4049D-08AF-428B-82F2-49FFC5F3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5168EE-8C5D-497C-8FA3-60E2B46A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83FE8A-86C9-4F8D-9A8B-0B599CB8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443A-991A-41D8-8F08-57884CEF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042920" y="115560"/>
            <a:ext cx="73152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920" y="115560"/>
            <a:ext cx="73152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636-5CD1-4474-A724-B46B2869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B73534-EDAB-4430-A540-C3351D655B9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A7A852-219B-4BF7-9E2E-67D1495A457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A5CB48-B85C-47FE-993F-1B3BAEF68E8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A48A80-1015-4B91-B098-719DA6CFA5E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DCF8AE-0450-4ADC-87F2-306586FE5C8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042920" y="115560"/>
            <a:ext cx="73152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7DAB48-51CA-49DE-9165-CA5E253A77F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998B9C-7C21-4F56-A422-EA48206CEF0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9329FA-ED01-4776-911A-3E71DFD3F8E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6F51FE-77DE-44F7-B823-98C4B587F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6C05-7B96-46DD-A9B7-91A74A52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9EE938-2C2E-47F1-98F9-FDEF9ADE797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82A636-302C-4058-8EBE-748BF8D5A44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1FE011-DDC8-440E-AE92-385A168E4AC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965F5-890A-4D2D-AB32-CA1457D9835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ACDBD-188D-44C9-A248-4BEAA60BFE6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2ECC8-3BB7-48C1-AAD8-67EB717FB42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67053-7898-4F7D-BC47-B38EEC479F4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3AB17-B795-48B0-862D-E8CD5F3A7C8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042920" y="115560"/>
            <a:ext cx="73152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4C1E6-21EB-4626-9EF3-A3E8EC3641C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AE2F4-094A-404E-AFA5-CF8C299CB4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6D46-527C-4126-963E-3D7BA123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C1AF0-BEBF-44D7-AC9B-2C6DC30AF05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FB103-DFBD-4055-86B5-FBF6868107B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59E89-5796-487D-966E-366123538D5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CE42C-81BE-4563-90BF-911E4FCD601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579DA-E7BC-4AF2-B3AB-D736E89E8ED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3694-F176-4D64-B374-9F135CCD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042920" y="115560"/>
            <a:ext cx="73152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едеральная антимонопольная служб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08B9-2EC1-4902-B0F1-17EF1206F6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едеральная антимонопольная служб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274C-0036-4ED9-BD93-9CFBEA338E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315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388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3f3f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3f3f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7"/>
          </p:nvPr>
        </p:nvSpPr>
        <p:spPr>
          <a:xfrm>
            <a:off x="-360" y="6467040"/>
            <a:ext cx="93996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8D3F-6D69-47A0-845A-AEC819D0E12E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609480" y="6553080"/>
            <a:ext cx="0" cy="304920"/>
          </a:xfrm>
          <a:prstGeom prst="line">
            <a:avLst/>
          </a:prstGeom>
          <a:ln w="9360">
            <a:solidFill>
              <a:srgbClr val="738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slayd_tit_down"/>
          <p:cNvPicPr/>
          <p:nvPr/>
        </p:nvPicPr>
        <p:blipFill>
          <a:blip r:embed="rId2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184320" y="115920"/>
            <a:ext cx="8707320" cy="3682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8e8e8"/>
                </a:solidFill>
                <a:latin typeface="Arial"/>
              </a:rPr>
              <a:t>Статистика дел Федеральной антимонопольной службы (2002 – 2004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609480" y="6553080"/>
            <a:ext cx="0" cy="304920"/>
          </a:xfrm>
          <a:prstGeom prst="line">
            <a:avLst/>
          </a:prstGeom>
          <a:ln w="9360">
            <a:solidFill>
              <a:srgbClr val="738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slayd_tit_down"/>
          <p:cNvPicPr/>
          <p:nvPr/>
        </p:nvPicPr>
        <p:blipFill>
          <a:blip r:embed="rId3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0"/>
          <p:cNvSpPr/>
          <p:nvPr/>
        </p:nvSpPr>
        <p:spPr>
          <a:xfrm>
            <a:off x="184320" y="115920"/>
            <a:ext cx="8707320" cy="3682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8e8e8"/>
                </a:solidFill>
                <a:latin typeface="Arial"/>
              </a:rPr>
              <a:t>Статистика дел Федеральной антимонопольной службы (2002 – 2004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609480" y="6553080"/>
            <a:ext cx="0" cy="304920"/>
          </a:xfrm>
          <a:prstGeom prst="line">
            <a:avLst/>
          </a:prstGeom>
          <a:ln w="9360">
            <a:solidFill>
              <a:srgbClr val="738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slayd_tit_down"/>
          <p:cNvPicPr/>
          <p:nvPr/>
        </p:nvPicPr>
        <p:blipFill>
          <a:blip r:embed="rId4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едеральная антимонопольная служб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0E73-18F5-454C-96C6-3B735A7E7A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slayd_tit"/>
          <p:cNvPicPr/>
          <p:nvPr/>
        </p:nvPicPr>
        <p:blipFill>
          <a:blip r:embed="rId2"/>
          <a:stretch/>
        </p:blipFill>
        <p:spPr>
          <a:xfrm>
            <a:off x="0" y="0"/>
            <a:ext cx="9144000" cy="2455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slayd_tit_down"/>
          <p:cNvPicPr/>
          <p:nvPr/>
        </p:nvPicPr>
        <p:blipFill>
          <a:blip r:embed="rId3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1"/>
          </p:nvPr>
        </p:nvSpPr>
        <p:spPr>
          <a:xfrm>
            <a:off x="-360" y="6467040"/>
            <a:ext cx="93996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F42B-62AA-4C97-AADB-F2231A47E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12"/>
          </p:nvPr>
        </p:nvSpPr>
        <p:spPr>
          <a:xfrm>
            <a:off x="-360" y="6467040"/>
            <a:ext cx="93996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7DDB-FB6A-4A96-BDEE-057248362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slayd_tit"/>
          <p:cNvPicPr/>
          <p:nvPr/>
        </p:nvPicPr>
        <p:blipFill>
          <a:blip r:embed="rId2"/>
          <a:stretch/>
        </p:blipFill>
        <p:spPr>
          <a:xfrm>
            <a:off x="0" y="0"/>
            <a:ext cx="9144000" cy="24559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slayd_tit_down"/>
          <p:cNvPicPr/>
          <p:nvPr/>
        </p:nvPicPr>
        <p:blipFill>
          <a:blip r:embed="rId3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slayd_tit"/>
          <p:cNvPicPr/>
          <p:nvPr/>
        </p:nvPicPr>
        <p:blipFill>
          <a:blip r:embed="rId4"/>
          <a:stretch/>
        </p:blipFill>
        <p:spPr>
          <a:xfrm>
            <a:off x="0" y="0"/>
            <a:ext cx="9144000" cy="2455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slayd_tit_down"/>
          <p:cNvPicPr/>
          <p:nvPr/>
        </p:nvPicPr>
        <p:blipFill>
          <a:blip r:embed="rId5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slayd_tit"/>
          <p:cNvPicPr/>
          <p:nvPr/>
        </p:nvPicPr>
        <p:blipFill>
          <a:blip r:embed="rId6"/>
          <a:stretch/>
        </p:blipFill>
        <p:spPr>
          <a:xfrm>
            <a:off x="0" y="0"/>
            <a:ext cx="9144000" cy="2455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slayd_tit_down"/>
          <p:cNvPicPr/>
          <p:nvPr/>
        </p:nvPicPr>
        <p:blipFill>
          <a:blip r:embed="rId7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315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388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3f3f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3f3f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3152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95280" y="620280"/>
            <a:ext cx="7956720" cy="5289480"/>
          </a:xfrm>
          <a:prstGeom prst="rect">
            <a:avLst/>
          </a:prstGeom>
          <a:ln w="0">
            <a:noFill/>
          </a:ln>
        </p:spPr>
      </p:pic>
      <p:sp>
        <p:nvSpPr>
          <p:cNvPr id="341" name="Номер слайда 2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C6C3-DEFB-4D7A-AAB8-68677E97D227}" type="slidenum">
              <a:rPr b="0" lang="ru-RU" sz="14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5"/>
          <p:cNvSpPr/>
          <p:nvPr/>
        </p:nvSpPr>
        <p:spPr>
          <a:xfrm>
            <a:off x="324000" y="260280"/>
            <a:ext cx="8135640" cy="74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rebuchet MS"/>
              </a:rPr>
              <a:t>О создании и организации системы внутреннего обеспечения соответствия требованиям антимонопольного законодательст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rebuchet MS"/>
              </a:rPr>
              <a:t>( Антимонопольный комплаенс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rebuchet MS"/>
              </a:rPr>
              <a:t>Князева Ирина Владимир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rebuchet MS"/>
              </a:rPr>
              <a:t>Доктор экономических наук, професс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rebuchet MS"/>
              </a:rPr>
              <a:t>Центр исследования конкурентной политики и эконом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rebuchet MS"/>
              </a:rPr>
              <a:t>СИУ РАНХиГ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rebuchet MS"/>
              </a:rPr>
              <a:t>Новосибирск,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NewRomanPSMT"/>
              </a:rPr>
              <a:t>Национальный  план развития конкуренции в Российской Федерации на 2018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c00000"/>
                </a:solidFill>
                <a:latin typeface="TimesNewRomanPSMT"/>
              </a:rPr>
              <a:t>2020 годы</a:t>
            </a:r>
            <a:br>
              <a:rPr sz="2400"/>
            </a:b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50920" y="981000"/>
            <a:ext cx="8555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8899"/>
                </a:solidFill>
                <a:latin typeface="Arial"/>
                <a:ea typeface="Arial"/>
              </a:rPr>
              <a:t>1.  </a:t>
            </a:r>
            <a:r>
              <a:rPr b="0" lang="ru-RU" sz="2000" spc="-1" strike="noStrike">
                <a:solidFill>
                  <a:srgbClr val="3f3f3f"/>
                </a:solidFill>
                <a:latin typeface="Arial"/>
                <a:ea typeface="Arial"/>
              </a:rPr>
              <a:t>ограничение создания унитарных предприятий на конкурентных рынках;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  <a:ea typeface="Arial"/>
              </a:rPr>
              <a:t>2. запрет прямого или косвенного приобретения государством и муниципальными образованиями акций и долей хозяйственных обществ, осуществляющих деятельность на товарных рынках в условиях конкуренции;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  <a:ea typeface="Arial"/>
              </a:rPr>
              <a:t>3. правовое регулирование системы внутреннего обеспечения соответствия требованиям антимонопольного законодательства  .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  <a:ea typeface="Arial"/>
              </a:rPr>
              <a:t>4. в каждом субъекте Федерации разработка дорожной карты по развитию конкуренции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3f3f3f"/>
                </a:solidFill>
                <a:latin typeface="Arial"/>
                <a:ea typeface="Arial"/>
              </a:rPr>
              <a:t>5. обеспечение во всех отраслях экономики РФ присутствия не менее трех хозяйствующих субъектов, не менее чем один из которых относится к частному бизнесу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  <a:ea typeface="Arial"/>
              </a:rPr>
              <a:t>6. разработка конкурентного законодательства на цифровых рынках</a:t>
            </a:r>
            <a:r>
              <a:rPr b="0" lang="ru-RU" sz="2600" spc="-1" strike="noStrike">
                <a:solidFill>
                  <a:srgbClr val="3f3f3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1788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400" spc="-1" strike="noStrike">
                <a:solidFill>
                  <a:srgbClr val="c00000"/>
                </a:solidFill>
                <a:latin typeface="Arial"/>
              </a:rPr>
              <a:t>https://fas.gov.ru/pages/vazhnaya-informacziya/standart-razvitiya-konkurenczii/standart-test-one.html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5A4E-F733-43E8-9CF9-F12699C02592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154080" y="1052640"/>
            <a:ext cx="8574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2501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нституты, на которые распространяется сфера применения  Федерального закона РФ № 135-ФЗ «О Защите конкуренции»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1392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Федеральные органы исполнительной власти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Органы государственной власти субъектов Российской Федерации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Органы местного самоуправления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Приравненные к ним органы власти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Центральный банк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Пенсионные фонды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8899"/>
                </a:solidFill>
                <a:latin typeface="Arial"/>
              </a:rPr>
              <a:t>Перечень организационно-распорядительных  и информационно-справочных документов, в отношении которых может осуществляться  антимонопольный надзор и контроль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57200" y="1600200"/>
          <a:ext cx="8229600" cy="3708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ез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Приказ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Проток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Распоря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Догов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Постано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Инстру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Письм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Антиконкурентные акты и действия органов власти  в соответствии с 135 –ФЗ «О защите конкуренции»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Arial"/>
              </a:rPr>
              <a:t>ГЛАВА 3. СТ.15. </a:t>
            </a:r>
            <a:r>
              <a:rPr b="0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ЗАПРЕТ НА ОГРАНИЧИВАЮЩИЕ КОНКУРЕНЦИЮ АКТЫ И ДЕЙСТВИЯ (БЕЗДЕЙСТВИЯ)  ФОИВ, ОРГАНОВ ГОСУДАРСТВЕННОЙ ВЛАСТИ СУБЪЕКТОВ РФ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В МЕСТНОГО САМОУПРАВЛЕНИЯ, ИНЫХ НАДЕЛЕННЫХ ФУНКЦИЯМИ ИЛИ ПРАВАМИ УКАЗАННЫХ ОРГАНОВ ВЛАСТИ </a:t>
            </a:r>
            <a:r>
              <a:rPr b="0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ОРГАНОВ ИЛИ ОРГАНИЗАЦИЙ, УЧАСТВУЮЩИХ В ПРЕДОСТАВЛЕНИИ ГОСУДАРСТВЕННЫХ И МУНИЦИПАЛЬНЫХ УСЛУГ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Arial"/>
              </a:rPr>
              <a:t>СТ. 16 </a:t>
            </a:r>
            <a:r>
              <a:rPr b="0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ЗАПРЕТ НА ОГРАНИВАЮЩИЕ КОНКУРЕНЦИЮ СОГЛАШЕНИЯ  ИЛИ СОГЛАСОВАННЫЕ ДЕЙСТВИЯ 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ГЛ. 4. </a:t>
            </a:r>
            <a:r>
              <a:rPr b="0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АНТИМОНОПОЛЬНЫЕ ТРЕБОВАНИЯ К ТОРГАМ ГОСУДАРСТВЕННЫМ И МУНИЦИПАЛЬНЫМ ИМУЩЕСТВОМ 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ГЛАВА 5. </a:t>
            </a:r>
            <a:r>
              <a:rPr b="0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КОНТРОЛЬ ЗА ГОСУДАРСТВЕННЫМИ И МУНИЦИПАЛЬНЫМИ ПРЕФЕРЕНЦИЯМИ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75" name="Номер слайда 4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10A5-657A-44B2-A489-B0792E56068B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8D26-0ED2-4828-A400-1E8DD87D065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928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Перечень запрещенных актов и действия органов власти, направленных на ограничение конкуренции ( ст.15 гл.3)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78" name="AutoShape 3"/>
          <p:cNvSpPr/>
          <p:nvPr/>
        </p:nvSpPr>
        <p:spPr>
          <a:xfrm>
            <a:off x="469800" y="692280"/>
            <a:ext cx="8569440" cy="87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d9dd"/>
              </a:gs>
              <a:gs pos="100000">
                <a:srgbClr val="eef5f6"/>
              </a:gs>
            </a:gsLst>
            <a:lin ang="16200000"/>
          </a:gradFill>
          <a:ln w="9360">
            <a:solidFill>
              <a:srgbClr val="7892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ить ограничения в отношении создания новых ХС в какой-либо сфере деятельности, а также установление запретов  или введение  ограничении в отношении осуществления отдельных видов деятельности или производства определенных видов това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900000" y="5013360"/>
            <a:ext cx="7920000" cy="41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d9dd"/>
              </a:gs>
              <a:gs pos="100000">
                <a:srgbClr val="eef5f6"/>
              </a:gs>
            </a:gsLst>
            <a:lin ang="16200000"/>
          </a:gradFill>
          <a:ln w="9360">
            <a:solidFill>
              <a:srgbClr val="7892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редоставление государственной или муниципальной  преференции в нарушение требований  гл. 5 ; создание дискриминационных услов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900000" y="4076640"/>
            <a:ext cx="792000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d9dd"/>
              </a:gs>
              <a:gs pos="100000">
                <a:srgbClr val="eef5f6"/>
              </a:gs>
            </a:gsLst>
            <a:lin ang="16200000"/>
          </a:gradFill>
          <a:ln w="9360">
            <a:solidFill>
              <a:srgbClr val="7892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Давать ХС указания о первоочередной поставке товаров (выполнение работ, оказание услуг) определенному кругу покупателей (заказчиков) или о приоритетном заключении договор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6"/>
          <p:cNvSpPr/>
          <p:nvPr/>
        </p:nvSpPr>
        <p:spPr>
          <a:xfrm>
            <a:off x="900000" y="3213000"/>
            <a:ext cx="7709040" cy="669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d9dd"/>
              </a:gs>
              <a:gs pos="100000">
                <a:srgbClr val="eef5f6"/>
              </a:gs>
            </a:gsLst>
            <a:lin ang="16200000"/>
          </a:gradFill>
          <a:ln w="9360">
            <a:solidFill>
              <a:srgbClr val="7892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Устанавливать и взимать не установленные законодательством РФ платежи при предоставлении государственных и муниципальных услуг, а также услуг , необходимых и сопутствующи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900000" y="5734080"/>
            <a:ext cx="7780320" cy="63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d9dd"/>
              </a:gs>
              <a:gs pos="100000">
                <a:srgbClr val="eef5f6"/>
              </a:gs>
            </a:gsLst>
            <a:lin ang="16200000"/>
          </a:gradFill>
          <a:ln w="9360">
            <a:solidFill>
              <a:srgbClr val="7892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Необоснованно предоставлять отдельному ХС или нескольким ХС льготы, ставящие их в преимущественное положение по отношению к другим ХС, работающим на рынок того же това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8"/>
          <p:cNvSpPr/>
          <p:nvPr/>
        </p:nvSpPr>
        <p:spPr>
          <a:xfrm>
            <a:off x="900000" y="1700280"/>
            <a:ext cx="770436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d9dd"/>
              </a:gs>
              <a:gs pos="100000">
                <a:srgbClr val="eef5f6"/>
              </a:gs>
            </a:gsLst>
            <a:lin ang="16200000"/>
          </a:gradFill>
          <a:ln w="9360">
            <a:solidFill>
              <a:srgbClr val="7892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Устанавливать запреты или введение  ограничений  в отношении перемещения товаров из одного региона РФ  в другой или иным образом ограничить права ХС на продажу (приобретение, покупку, обмен) товар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9"/>
          <p:cNvSpPr/>
          <p:nvPr/>
        </p:nvSpPr>
        <p:spPr>
          <a:xfrm>
            <a:off x="900000" y="2716200"/>
            <a:ext cx="7709040" cy="273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d9dd"/>
              </a:gs>
              <a:gs pos="100000">
                <a:srgbClr val="eef5f6"/>
              </a:gs>
            </a:gsLst>
            <a:lin ang="16200000"/>
          </a:gradFill>
          <a:ln w="9360">
            <a:solidFill>
              <a:srgbClr val="7892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Необоснованно препятствовать осуществлению деятельности ХС в какой-либо сфер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0"/>
          <p:cNvSpPr/>
          <p:nvPr/>
        </p:nvSpPr>
        <p:spPr>
          <a:xfrm>
            <a:off x="250920" y="404640"/>
            <a:ext cx="0" cy="561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250920" y="6021360"/>
            <a:ext cx="63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2"/>
          <p:cNvSpPr/>
          <p:nvPr/>
        </p:nvSpPr>
        <p:spPr>
          <a:xfrm>
            <a:off x="304920" y="5300640"/>
            <a:ext cx="577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3"/>
          <p:cNvSpPr/>
          <p:nvPr/>
        </p:nvSpPr>
        <p:spPr>
          <a:xfrm>
            <a:off x="304920" y="4437000"/>
            <a:ext cx="577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4"/>
          <p:cNvSpPr/>
          <p:nvPr/>
        </p:nvSpPr>
        <p:spPr>
          <a:xfrm>
            <a:off x="250920" y="3500280"/>
            <a:ext cx="63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5"/>
          <p:cNvSpPr/>
          <p:nvPr/>
        </p:nvSpPr>
        <p:spPr>
          <a:xfrm>
            <a:off x="250920" y="2852640"/>
            <a:ext cx="63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6"/>
          <p:cNvSpPr/>
          <p:nvPr/>
        </p:nvSpPr>
        <p:spPr>
          <a:xfrm>
            <a:off x="304920" y="2060640"/>
            <a:ext cx="65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1"/>
          <p:cNvSpPr/>
          <p:nvPr/>
        </p:nvSpPr>
        <p:spPr>
          <a:xfrm>
            <a:off x="692280" y="6173640"/>
            <a:ext cx="34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4"/>
          <p:cNvSpPr/>
          <p:nvPr/>
        </p:nvSpPr>
        <p:spPr>
          <a:xfrm>
            <a:off x="133200" y="1128600"/>
            <a:ext cx="343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Номер слайда 4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3D97-C28F-48A5-BE34-8F85ADE76FF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1788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труктура возбужденных дел в отношении антиконкурентных актов и действий органов власти в 2018г. по системе ФАС России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pic>
        <p:nvPicPr>
          <p:cNvPr id="396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249800" cy="496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7" name=""/>
          <p:cNvGraphicFramePr/>
          <p:nvPr/>
        </p:nvGraphicFramePr>
        <p:xfrm>
          <a:off x="4648320" y="981000"/>
          <a:ext cx="3886200" cy="5400720"/>
        </p:xfrm>
        <a:graphic>
          <a:graphicData uri="http://schemas.openxmlformats.org/drawingml/2006/table">
            <a:tbl>
              <a:tblPr/>
              <a:tblGrid>
                <a:gridCol w="284040"/>
                <a:gridCol w="3602160"/>
              </a:tblGrid>
              <a:tr h="53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нару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нару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еобоснованное препятствование осуществлению деятельности х/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деление х/с властными функц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становление ограничений в выборе продавц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едоставление  государственной или муниципальной префер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вмещение функций органов власти с функциями х/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становление запретов на перемещение, продажу товар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казания  о  приоритетной поставке товаров, заключении догово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граничение на создание новых х/с, установление запретов на отдельные виды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Динамика нарушений антимонопольного законодательства  органами власти всех уровней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34D0-CF3C-4E18-BFDA-3D6CE712FEF7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546120" y="1628640"/>
            <a:ext cx="71103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озбуждено дел о нарушении антимонопольного законодательства (2014-2018)*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0" y="6467400"/>
            <a:ext cx="6875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C7B8-5194-4D27-849D-54F8840DCF04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* Материалы  Государственного доклада о состоянии конкуренции 2018 г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55440" y="1197000"/>
            <a:ext cx="88376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94920" y="692280"/>
            <a:ext cx="8497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ширение института предупреждения и предостережения, распространение его на действия органов государственной власти и местного самоуправления с 2016 г.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. 15, 39.1,25.7"О защите конкурен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)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39480" indent="-3394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является механизм оперативного устранения антимонопольных правонарушений со стороны должностных лиц органов власти (ст.25.7)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39480" indent="-3394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с другой стороны - механизм ужесточения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39480" indent="-3394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овторном нарушении штраф от 30 до 50 тыс. руб. или дисквалификация до 3 лет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9A6A-397F-4184-A0C6-ED4A3721FBCE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DF9F-4A24-4D77-A50F-E06AE0928AD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Деятельность государства должна быть направлена на совершенствование рынка, а не на отмену или обход его.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Дж.Гэлбрэйт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3581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татья 39</a:t>
            </a:r>
            <a:r>
              <a:rPr b="1" lang="ru-RU" sz="2000" spc="-1" strike="noStrike" baseline="30000">
                <a:solidFill>
                  <a:srgbClr val="c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. Предупреждение о прекращении действий (бездействия), которые содержат признаки нарушения АМЗ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50920" y="69192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8899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738899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лях пресечения нарушений в сфере предпринимательской деятельности, антимонопольный орган выдает ФОИВ, органу государственной власти субъекта РФ, органу МСУ, иным осуществляющим функции указанных органов органу или организации, организации, участвующей в предоставлении государственных или муниципальных услуг,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редупреждение</a:t>
            </a:r>
            <a:r>
              <a:rPr b="1" lang="ru-RU" sz="2400" spc="-1" strike="noStrike">
                <a:solidFill>
                  <a:srgbClr val="7388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исьменной форме о прекращении действий (бездействия), об отмене или изменении актов, которые содержат признаки нарушения АМЗ, либо об устранении причин и условий, способствовавших возникновению такого нарушения, и о принятии мер по устранению последствий такого нарушения 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15360" indent="-31536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8899"/>
                </a:solidFill>
                <a:latin typeface="Arial"/>
              </a:rPr>
              <a:t>2.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редупреждение</a:t>
            </a:r>
            <a:r>
              <a:rPr b="0" lang="ru-RU" sz="2400" spc="-1" strike="noStrike">
                <a:solidFill>
                  <a:srgbClr val="7388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ается 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цам, в случае выявления признаков нарушения </a:t>
            </a:r>
            <a:r>
              <a:rPr b="1" lang="ru-RU" sz="2400" spc="-1" strike="noStrike">
                <a:solidFill>
                  <a:srgbClr val="738899"/>
                </a:solidFill>
                <a:latin typeface="Arial"/>
              </a:rPr>
              <a:t>ст. 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Arial"/>
                <a:hlinkClick r:id="rId1" action="ppaction://hlinksldjump"/>
              </a:rPr>
              <a:t>15</a:t>
            </a:r>
            <a:r>
              <a:rPr b="1" lang="ru-RU" sz="2400" spc="-1" strike="noStrike">
                <a:solidFill>
                  <a:srgbClr val="738899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1536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09" name="Номер слайда 4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81F1-578D-4A7E-A326-7E40FB205287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3864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ыявлено нарушений антимонопольного законодательства (2014-2018 гг)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F9FA-4ED6-471F-B924-C81AC701936B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492120" y="1773360"/>
            <a:ext cx="80406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3152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оотношение возбужденных дел и выданных предупреждений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41A7-7F64-4DBA-A660-155DF2E5CD1E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76320" y="1125360"/>
            <a:ext cx="881676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1072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оличество выданных и исполненных предупреждений , всего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BEED-06CB-4066-9BD3-80381FBCD15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326880" y="2133720"/>
            <a:ext cx="85662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135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Доля исполненных предупреждений по различным видам нарушений АМЗ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8BF1-3CB5-4C09-9A2B-97D399932442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230040" y="1484280"/>
            <a:ext cx="83026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712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Направления предостережения , в т.ч. должностным лицам ФОИВ, органа государственной власти субъекта РФ, органа МСУ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AB65-EE95-43BF-9ED5-D771E2235A1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520560" y="1700280"/>
            <a:ext cx="77965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064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есечение ограничивающих конкуренцию действий (бездействия) органов государственной власти и органов местного самоуправления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6438-4841-42CD-A8CB-F5A2090B4F3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282600" y="2060640"/>
            <a:ext cx="86533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8897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оглашения с участием органов государственной власти и  местного самоуправления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9F52-3D58-4DD8-A183-A20008A2D80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8353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820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буждено дел о преференциях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735A-CB3F-4A9E-8C13-6164FAE7FBE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03040" y="1413000"/>
            <a:ext cx="82566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107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Результаты рассмотрения заявлений о предоставлении преференций в  2018  г</a:t>
            </a:r>
            <a:r>
              <a:rPr b="0" lang="ru-RU" sz="42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5547-9263-4F3D-8D3E-0A4F55D6511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309600" y="1125360"/>
            <a:ext cx="822312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8A9F-D448-414D-88C6-23BCF1B892D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74872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Arial"/>
              </a:rPr>
              <a:t>Перечень законов, контроль  исполнение которых осуществляет ФАС России</a:t>
            </a:r>
            <a:r>
              <a:rPr b="0" lang="ru-RU" sz="4200" spc="-1" strike="noStrike">
                <a:solidFill>
                  <a:srgbClr val="738899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025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Object 1024"/>
          <p:cNvGraphicFramePr/>
          <p:nvPr/>
        </p:nvGraphicFramePr>
        <p:xfrm>
          <a:off x="244440" y="701640"/>
          <a:ext cx="8012160" cy="57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440" y="701640"/>
                    <a:ext cx="8012160" cy="57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1072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татья 39. Основания для возбуждения дела о нарушении антимонопольного законодательства (АМЗ)</a:t>
            </a:r>
            <a:br>
              <a:rPr sz="2400"/>
            </a:b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08000" y="691920"/>
            <a:ext cx="90360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8899"/>
                </a:solidFill>
                <a:latin typeface="Arial"/>
              </a:rPr>
              <a:t>1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упление из государственных органов, органов местного самоуправления материалов, указывающих на наличие признаков нарушения АМЗ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заявление юридического или физического лица, указывающее на признаки нарушения АМЗ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обнаружение антимонопольным органом признаков нарушения АМЗ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сообщение средства массовой информации, указывающее на наличие признаков нарушения АМЗ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результат проверки, при проведении которой выявлены признаки нарушения АМЗ федеральными органами исполнительной власти, органами государственной власти субъектов РФ, органами местного самоуправления, иными осуществляющими функции указанных органов 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13A9-ACBE-4E18-96C9-1E96F9E3D97B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85672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труктура и количество выданных предписаний органам власти разных уровней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pic>
        <p:nvPicPr>
          <p:cNvPr id="441" name="Объект 4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6840720" cy="2622600"/>
          </a:xfrm>
          <a:prstGeom prst="rect">
            <a:avLst/>
          </a:prstGeom>
          <a:ln w="0">
            <a:noFill/>
          </a:ln>
        </p:spPr>
      </p:pic>
      <p:sp>
        <p:nvSpPr>
          <p:cNvPr id="442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67A3-9119-4F13-ABF2-2EE38A2DEF2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611280" y="4076640"/>
          <a:ext cx="7777080" cy="1123920"/>
        </p:xfrm>
        <a:graphic>
          <a:graphicData uri="http://schemas.openxmlformats.org/drawingml/2006/table">
            <a:tbl>
              <a:tblPr/>
              <a:tblGrid>
                <a:gridCol w="2592360"/>
                <a:gridCol w="2592360"/>
                <a:gridCol w="2592360"/>
              </a:tblGrid>
              <a:tr h="391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упрежд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ами вла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выда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3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выполн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25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3FFF-A6F9-40A4-B378-4EE3D494200B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13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Государственные или муниципальные преференции могут быть предоставлены на основании правовых актов органов власти исключительно в целях:</a:t>
            </a:r>
            <a:br>
              <a:rPr sz="1800"/>
            </a:br>
            <a:endParaRPr b="0" lang="en-US" sz="1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738899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738899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) обеспечения жизнедеятельности населения в районах Крайнего Севера и приравненных к ним местностях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2) развития образования и науки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3) проведения научных исследований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4) защиты окружающей среды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5) сохранения, использования, популяризации и государственной охраны объектов культурного наследия (памятников истории и культуры) народов Российской Федерации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6) развития культуры, искусства и сохранения культурных ценностей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7) развития физической культуры и спорта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8) обеспечения обороноспособности страны и безопасности государства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9) производства сельскохозяйственной продукции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10) социальной защиты населения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11) охраны труда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12) охраны здоровья граждан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13) поддержки субъектов малого и среднего предпринимательства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14) определяемых другими ФЗ, нормативными правовыми актами Президента РФ и нормативными правовыми актами Правительства РФ.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F571-1676-4A46-9A1B-A1411CF74FF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691920"/>
            <a:ext cx="7925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8899"/>
                </a:solidFill>
                <a:latin typeface="Arial"/>
              </a:rPr>
              <a:t>Повторяющиеся нарушения антимонопольного законодательства со стороны органов власти и местного самоуправления являются опасной тенденцией, которая представляет постоянную угрозу конкуренции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8899"/>
                </a:solidFill>
                <a:latin typeface="Arial"/>
              </a:rPr>
              <a:t>Перед антимонопольным ведомством стоит важная задача - усиление антимонопольного контроля за деятельностью органов государственной власти. «Повышена административная ответственность для государственных и муниципальных служащих за нарушение антимонопольного законодательства: введена дисквалификация в качестве меры ответственности», - отмечал в своем докладе руководитель ФАС России Игорь Артемьев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0341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00000"/>
                </a:solidFill>
                <a:latin typeface="Arial"/>
              </a:rPr>
              <a:t>Антимонопольный комплаенс</a:t>
            </a: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95280" y="980640"/>
            <a:ext cx="87487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истема внутреннего предупреждения нарушений антимонопольного законодательства.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правовых и организационных мер (регламент), предусмотренных внутренним актом хозяйствующего субъекта или органа власти, которые  направлены на соблюдение требований антимонопольного законодательства и предупреждение его нарушения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24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D363-2A35-4A80-B89C-131A2BDB14A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2501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нципы антимонопольного комплаенса</a:t>
            </a:r>
            <a:r>
              <a:rPr b="0" lang="ru-RU" sz="3200" spc="-1" strike="noStrike">
                <a:solidFill>
                  <a:srgbClr val="738899"/>
                </a:solidFill>
                <a:latin typeface="Arial"/>
              </a:rPr>
              <a:t>: </a:t>
            </a:r>
            <a:br>
              <a:rPr sz="3200"/>
            </a:b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0" y="836640"/>
            <a:ext cx="8964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заинтересованность руководства ОВ в эффективности функционирования антимонопольного комплаенса;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18960" indent="-31896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регулярность оценки рисков нарушения антимонопольного законодательства;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18960" indent="-31896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обеспечение информационной открытости функционирования в ОВ антимонопольного комплаенса;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18960" indent="-31896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непрерывность функционирования антимонопольного комплаенса в ОВ;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18960" indent="-31896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совершенствование антимонопольного комплаенса.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18960" indent="-31896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19FE-1DD8-4008-8D7E-F47EC53354FE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3152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еречень определяющих документов:</a:t>
            </a:r>
            <a:br>
              <a:rPr sz="2800"/>
            </a:b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78920" y="765000"/>
            <a:ext cx="8355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Указ Президента Российской Федерации от 21.12.2017 № 618 «Об основных направлениях государственной политики по развитию конкуренции»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Распоряжение Правительства РФ от 18 октября 2018 г. № 2258-р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Приказ Федеральной антимонопольной службы от 27 ноября 2018 г. № 1646/18 «О системе внутреннего обеспечения соответствия требованиям антимонопольного законодательства в ФАС России (антимонопольном комплаенсе)»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Поручение руководителя ФАС России от 19.12.2018 № 01-047-РП/пр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96C1-310B-484B-9633-42CA812CA3E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50920" y="980640"/>
            <a:ext cx="8283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38899"/>
                </a:solidFill>
                <a:latin typeface="Arial"/>
              </a:rPr>
              <a:t>Стандарт развития конкуренции в субъектах Российской Федерации, утвержденный распоряжением Правительства Российской Федерации от 17 апреля 2019 г. No 768-р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38899"/>
                </a:solidFill>
                <a:latin typeface="Arial"/>
              </a:rPr>
              <a:t>Дорожная карта развития конкуренции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38899"/>
                </a:solidFill>
                <a:latin typeface="Arial"/>
              </a:rPr>
              <a:t>Разработка системы антимонопольного комплаенса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6AFA-2A05-483A-B5FB-BF78CA4FC3AE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Указ Президента РФ от 21 декабря 2017 г. № 618 «Об основных направлениях государственной политики по развитию конкуренции»</a:t>
            </a:r>
            <a:br>
              <a:rPr sz="2800"/>
            </a:b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79280" y="1196640"/>
            <a:ext cx="8856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Ключевой показатель Национального плана развития конкуренции: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Arial"/>
              </a:rPr>
              <a:t>- снижение количества нарушений антимонопольного законодательства со стороны органов государственной власти и органов местного самоуправления к 2020 году не менее чем в 2 раза по сравнению с 2017 годом.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Основополагающие </a:t>
            </a:r>
            <a:r>
              <a:rPr b="1" lang="ru-RU" sz="2000" spc="-1" strike="noStrike">
                <a:solidFill>
                  <a:srgbClr val="3f3f3f"/>
                </a:solidFill>
                <a:latin typeface="Arial"/>
              </a:rPr>
              <a:t>принципы государственной политики по развитию конкуренции, </a:t>
            </a: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которыми необходимо руководствоваться при внедрении антимонопольного комплаенса: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- открытость антимонопольной политики;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- ответственность органов государственной власти и органов местного самоуправления за реализацию государственной политики по развитию конкуренции;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- измеримость результатов государственной политики по развитию конкуренции.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A14E-0AC4-4D86-9E43-AA298A1E6F7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108000" y="43920"/>
            <a:ext cx="8856720" cy="68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В целях реализации основных направлений государственной политики по развитию конкуренции Указом № 618 поручено: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8899"/>
                </a:solidFill>
                <a:latin typeface="Arial"/>
              </a:rPr>
              <a:t>Правительству Российской Федерации: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8899"/>
                </a:solidFill>
                <a:latin typeface="Arial"/>
              </a:rPr>
              <a:t>- принять меры, направленные на создание и организацию системы внутреннего обеспечения соответствия требованиям АМЗ деятельности    ФОИВ     Срок до 1 марта 2019 года.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8899"/>
                </a:solidFill>
                <a:latin typeface="Arial"/>
              </a:rPr>
              <a:t>Высшим должностным лицам (руководителям высших исполнительных органов гос. власти) субъектов РФ: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8899"/>
                </a:solidFill>
                <a:latin typeface="Arial"/>
              </a:rPr>
              <a:t>- принять меры, направленные на создание и организацию системы внутреннего обеспечения соответствия требованиям АМЗ деятельности органов исполнительной власти субъектов РФ 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8899"/>
                </a:solidFill>
                <a:latin typeface="Arial"/>
              </a:rPr>
              <a:t>Срок до 1 марта 2019 г.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8899"/>
                </a:solidFill>
                <a:latin typeface="Arial"/>
              </a:rPr>
              <a:t>Органам местного самоуправления рекомендовано: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8899"/>
                </a:solidFill>
                <a:latin typeface="Arial"/>
              </a:rPr>
              <a:t>- активизировать работу по развитию конкуренции в муниципальных образованиях;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8899"/>
                </a:solidFill>
                <a:latin typeface="Arial"/>
              </a:rPr>
              <a:t>- обеспечить в своей деятельности приоритет целей и задач по развитию конкуренции на товарных рынках.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6173-A1CD-4E79-BE3D-22A8E453E70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3152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Государство как регулятор рыночных отношений может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1392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ивать через систему соответствующих институтов эффективное состояние экономики территории и оправданное состояние конкурентной среды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вать определенные препятствия в виде административных барьеров для деятельности отдельных субъектов рынка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44092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c00000"/>
                </a:solidFill>
                <a:latin typeface="Arial"/>
              </a:rPr>
              <a:t>Вопрос 2 Направления реализации АК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68360" y="1700280"/>
            <a:ext cx="7996320" cy="46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26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738899"/>
                </a:solidFill>
                <a:latin typeface="Arial"/>
              </a:rPr>
              <a:t>1.</a:t>
            </a:r>
            <a:r>
              <a:rPr b="0" lang="ru-RU" sz="2300" spc="-1" strike="noStrike">
                <a:solidFill>
                  <a:srgbClr val="738899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Разработка Стандарта/Кодекса  добросовестной конкурентной практики (типового и адаптированного  бизнесу)</a:t>
            </a:r>
            <a:endParaRPr b="0" lang="en-US" sz="23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26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2.</a:t>
            </a: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Разработка элементов АК в виде обязательных стандартизированных процедур для органов власти разных уровней и включение их  в «Стандарт развития конкуренции», как важный содержательный элемент</a:t>
            </a:r>
            <a:endParaRPr b="0" lang="en-US" sz="23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26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3.</a:t>
            </a: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Разработка системы взаимодействия с МинЭК, ФАС России, АСИ в части включения в систему публичных мероприятий, нормативных актов (дорожных карт),  документов , направленных на развитие конкуренции  ( в т.ч. «Стандарт развития конкуренции») содержательных положений по АК </a:t>
            </a:r>
            <a:endParaRPr b="0" lang="en-US" sz="23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26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Выгоды и эффекты  от внедрения АК</a:t>
            </a:r>
            <a:endParaRPr b="0" lang="en-US" sz="3600" spc="-1" strike="noStrike">
              <a:solidFill>
                <a:srgbClr val="738899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250920" y="907920"/>
          <a:ext cx="8569080" cy="51850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5191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ля бизне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103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ee09c"/>
                          </a:solidFill>
                          <a:latin typeface="Arial"/>
                        </a:rPr>
                        <a:t>Внутренни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Сокращение ущерба от штрафных санкц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5173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Снижение операционных и правовых рис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10382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Экономически-правовое обоснование стратегии и тактики развития и функционир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15544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ee09c"/>
                          </a:solidFill>
                          <a:latin typeface="Arial"/>
                        </a:rPr>
                        <a:t>Внешни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Формирование позитивного  бизнес-имиджа с положительной историей сотрудничеств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5191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Снижение рисков коррупционного повед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964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00000"/>
                </a:solidFill>
                <a:latin typeface="Arial"/>
              </a:rPr>
              <a:t>Выгоды и эффекты  от внедрения АК</a:t>
            </a:r>
            <a:endParaRPr b="0" lang="en-US" sz="3800" spc="-1" strike="noStrike">
              <a:solidFill>
                <a:srgbClr val="738899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250920" y="836640"/>
          <a:ext cx="8713800" cy="556884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8953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ля органов вла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99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Снижение антиконкурентных поведений: актов, действий, бездейств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9939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Создание условий для формирования благоприятного предпринимательского клима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8953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Формирование позитивного имидж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8953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Мотивация к снижению коррупционных рис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8953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Сотрудничество с антимонопольным  орган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ыгоды и эффекты  от внедрения АК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08000" y="620640"/>
          <a:ext cx="8856720" cy="6034320"/>
        </p:xfrm>
        <a:graphic>
          <a:graphicData uri="http://schemas.openxmlformats.org/drawingml/2006/table">
            <a:tbl>
              <a:tblPr/>
              <a:tblGrid>
                <a:gridCol w="8856720"/>
              </a:tblGrid>
              <a:tr h="49392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ля регуля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98892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Сокращение количества дел, связанных с нарушением АМ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103176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Увеличение практик предостережения и предупрежд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123984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Формирование  системы обратной связи с представителями бизнеса и органов вла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124776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Концентрация усилий на защите конкуренции через механизмы адвокатир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1032120"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Участие в формировании политики по созданию благоприятных условий для развития бизне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539640" y="1267920"/>
            <a:ext cx="79948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Актуальные проблемы внедрения антимонопольного комплаенса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3000" spc="-1" strike="noStrike">
                <a:solidFill>
                  <a:srgbClr val="c00000"/>
                </a:solidFill>
                <a:latin typeface="Arial"/>
              </a:rPr>
              <a:t>https://fas.gov.ru/extended_search?utf8=%E2%9C%93&amp;filter_materials%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3CCE-24FD-4DBF-B3E6-5DC08C1C7B8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7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f3f3f"/>
                </a:solidFill>
                <a:latin typeface="Arial"/>
              </a:rPr>
              <a:t>СПАСИБО ЗА ВНИМАНИЕ !</a:t>
            </a:r>
            <a:endParaRPr b="0" lang="en-US" sz="36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80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31A2-6F86-4C79-B045-39E2B33E2491}" type="slidenum">
              <a:rPr b="0" lang="en-US" sz="14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868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unga"/>
              </a:rPr>
              <a:t>Конституция РФ содержит ряд норм, обеспечивающих реализацию полномочий антимонопольных органов в сфере выполнения контрольных функций, связанных с развитием рыночной конкуренции и недопущением антиконкурентных действий со стороны органов власти различного уровня</a:t>
            </a:r>
            <a:br>
              <a:rPr sz="2400"/>
            </a:b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3628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Статья 8 гарантирует единство экономического пространства, свободу перемещения товаров, услуг и финансовых средств, поддержку конкуренции, свободу экономической деятельности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Статья 34  не допускается экономическая деятельность, направленная на монополизацию и недобросовестную конкуренцию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Статья 74 не допускается установление на территории Российской Федерации таможенных границ, пошлин, сборов и каких-либо иных препятствий для свободного перемещения товаров, услуг и финансовых средств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Arial"/>
              </a:rPr>
              <a:t>Органы государственной власти и местного самоуправления не всегда находят адекватные рыночной экономике пути взаимоотношений с хозяйствующими субъектами. Это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компенсируется :</a:t>
            </a:r>
            <a:endParaRPr b="0" lang="en-US" sz="2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066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принятием подзаконных актов по вопросам лицензирования, квотирования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32640" indent="-33264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усложняется порядок регистрации предприятий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32640" indent="-33264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создаются препятствия в распределении земельных участков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32640" indent="-33264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предоставляются необоснованные преференции и др.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271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unga"/>
              </a:rPr>
              <a:t>Реализуя конституционные гарантии, закрепленные в статье 132 Конституции РФ, органы местного самоуправления имеют право «самостоятельно управлять муниципальной собственностью, формировать, утверждать и исполнять местный бюджет, устанавливать местные налоги и сборы, осуществлять охрану общественного порядка, а также решать иные вопросы местного значения»</a:t>
            </a:r>
            <a:br>
              <a:rPr sz="2400"/>
            </a:b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3068640"/>
            <a:ext cx="822960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В гл. 3 статьях 14-16 №131-ФЗ перечислен широкий спектр вопросов местного значения.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для поселений 34 вида деятельности,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для муниципальных районов – 28 видов,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для городских округов – 26 видов.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78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гл. 3 статьях 14-16 №131-ФЗ выделяются вопросы социального, технологического, экологического и экономического значения. Наиболее значимыми вопросами экономического значения являются</a:t>
            </a:r>
            <a:r>
              <a:rPr b="1" lang="ru-RU" sz="2000" spc="-1" strike="noStrike">
                <a:solidFill>
                  <a:srgbClr val="738899"/>
                </a:solidFill>
                <a:latin typeface="Arial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налоговое регулирование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владение, пользование и распоряжение имуществом, находящимся в муниципальной собственности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организация в границах муниципального района электро- и газоснабжения поселений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предоставления транспортных услуг населению и организация транспортного обслуживания; 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создание условий для обеспечения жителей услугами связи, общественного питания, торговли и бытового обслуживания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выдача разрешений на установку рекламных конструкций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организация ритуальных услуг и содержание мест захоронения и др. 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8000" y="228600"/>
            <a:ext cx="89280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Указ Президента РФ №618 «Об основных направлениях государственной политики по развитию конкуренции» от 21.12. 2017 г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7640" y="1526760"/>
            <a:ext cx="87850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f3f3f"/>
                </a:solidFill>
                <a:latin typeface="Arial"/>
              </a:rPr>
              <a:t>1. </a:t>
            </a:r>
            <a:r>
              <a:rPr b="0" lang="ru-RU" sz="1700" spc="-1" strike="noStrike">
                <a:solidFill>
                  <a:srgbClr val="3f3f3f"/>
                </a:solidFill>
                <a:latin typeface="Arial"/>
                <a:ea typeface="Arial"/>
              </a:rPr>
              <a:t>Считать активное содействие развитию конкуренции в РФ приоритетным направлением деятельности Президента Российской Федерации, Федерального Собрания, Правительства , федеральных органов исполнительной власти, законодательных и исполнительных органов государственной власти субъектов РФ, а также органов местного самоуправления.</a:t>
            </a: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f3f3f"/>
                </a:solidFill>
                <a:latin typeface="Arial"/>
                <a:ea typeface="Arial"/>
              </a:rPr>
              <a:t>2. Определить, что целями совершенствования государственной политики по развитию конкуренции являются:</a:t>
            </a: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f3f3f"/>
                </a:solidFill>
                <a:latin typeface="Arial"/>
                <a:ea typeface="Arial"/>
              </a:rPr>
              <a:t>а) повышение удовлетворенности потребителей за счет расширения ассортимента товаров, услуг, повышения их качества и снижения цен;</a:t>
            </a: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f3f3f"/>
                </a:solidFill>
                <a:latin typeface="Arial"/>
                <a:ea typeface="Arial"/>
              </a:rPr>
              <a:t>б) повышение экономической эффективности и конкурентоспособности хозяйствующих субъектов…;</a:t>
            </a: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f3f3f"/>
                </a:solidFill>
                <a:latin typeface="Arial"/>
                <a:ea typeface="Arial"/>
              </a:rPr>
              <a:t>в) стабильный рост и развитие многоукладной экономики…, снижение социальной напряженности в обществе, обеспечение национальной безопасности.</a:t>
            </a: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Ирина Князева</cp:lastModifiedBy>
  <dcterms:modified xsi:type="dcterms:W3CDTF">2019-06-18T22:07:40Z</dcterms:modified>
  <cp:revision>319</cp:revision>
  <dc:subject/>
  <dc:title>Презентация PowerPoint</dc:title>
</cp:coreProperties>
</file>